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7.gif" ContentType="image/gif"/>
  <Override PartName="/ppt/media/image18.wmf" ContentType="image/x-wmf"/>
  <Override PartName="/ppt/media/image20.wmf" ContentType="image/x-wmf"/>
  <Override PartName="/ppt/media/image11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6.gif" ContentType="image/gif"/>
  <Override PartName="/ppt/media/image17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2C99-77C8-4418-9360-CE2F35024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8AF9-FBEF-4108-875B-50D728F09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10B9-0EA6-46A1-A244-2B3DA8682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D583-21BC-42E6-8314-41DA641CE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E97EB-8BFC-444B-A016-861198D4B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BCEDB-1132-4BD5-88C8-ED610CE3D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6C39D-454D-4AF6-9FFA-109BBEBD5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B6BF3-4F7E-4ED2-88F1-FEC99F772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DF7D7-F001-42DC-BE08-105A422D2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60393-4F68-41EB-881E-6A4F80241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C3E0E-09A7-4C2C-9BA1-71D182B3D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8154-A4B5-437F-8CD3-1FD772E95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40B50-2BF0-4012-AE4B-84A2CC61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39BCF-DCA4-470C-AFFF-78E6C1395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A3FC9-ACF0-4007-B23D-3B6143F65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FE906-DF6C-41F5-A2AF-FFCF2DA82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EB3B6-3FBE-4206-95AE-9EC75AB7A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9DA3-09C6-4947-9704-1F125D8C0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220F-7A3C-4484-BE96-8193CB3AE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1628-98C8-4E0D-AF6A-30817E1E0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703E-B712-4308-8A5B-E3FBA8408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E1F8-B918-4339-B570-A84125FB7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9B19-772E-4579-ADD8-9AA14E0B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5767-AB9B-4AD0-8A4C-3941F6938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dfdfd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B66EC-F2BA-4848-B5BB-93F4BEAC08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A1889-4F16-45F8-A8CD-30786BE493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gi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wmf"/><Relationship Id="rId8" Type="http://schemas.openxmlformats.org/officeDocument/2006/relationships/image" Target="../media/image12.wmf"/><Relationship Id="rId9" Type="http://schemas.openxmlformats.org/officeDocument/2006/relationships/image" Target="../media/image13.wmf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gi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wmf"/><Relationship Id="rId8" Type="http://schemas.openxmlformats.org/officeDocument/2006/relationships/image" Target="../media/image12.wmf"/><Relationship Id="rId9" Type="http://schemas.openxmlformats.org/officeDocument/2006/relationships/image" Target="../media/image13.wmf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gdickins@odu.edu" TargetMode="External"/><Relationship Id="rId2" Type="http://schemas.openxmlformats.org/officeDocument/2006/relationships/hyperlink" Target="mailto:bstripling@schools.nyc.gov" TargetMode="External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ala.org/ala/aasl/aaslproftools/learningstandards/standards.cfm" TargetMode="Externa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apyrus"/>
              </a:rPr>
              <a:t>Standards for the 21</a:t>
            </a:r>
            <a:r>
              <a:rPr b="1" lang="en-US" sz="4400" spc="-1" strike="noStrike" baseline="30000">
                <a:solidFill>
                  <a:srgbClr val="000000"/>
                </a:solidFill>
                <a:latin typeface="Papyrus"/>
              </a:rPr>
              <a:t>st</a:t>
            </a:r>
            <a:r>
              <a:rPr b="1" lang="en-US" sz="4400" spc="-1" strike="noStrike">
                <a:solidFill>
                  <a:srgbClr val="000000"/>
                </a:solidFill>
                <a:latin typeface="Papyrus"/>
              </a:rPr>
              <a:t> Century Lear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SLMS Leadership Retr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August 3-4,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533520" y="53352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143000" y="2590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qui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114800" y="10666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formation Eth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2819520"/>
            <a:ext cx="2590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724280" y="28195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895480" y="396252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quity and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219320" y="49528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hild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867280" y="457200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hinking sk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7238880" y="4876920"/>
            <a:ext cx="1438560" cy="18190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7358040" y="2590920"/>
            <a:ext cx="1785960" cy="15573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2743200" y="380880"/>
            <a:ext cx="1047600" cy="107640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0" y="5084640"/>
            <a:ext cx="1868400" cy="177336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5"/>
          <a:stretch/>
        </p:blipFill>
        <p:spPr>
          <a:xfrm>
            <a:off x="6858000" y="533520"/>
            <a:ext cx="1616040" cy="18064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6"/>
          <a:stretch/>
        </p:blipFill>
        <p:spPr>
          <a:xfrm>
            <a:off x="4038480" y="5105520"/>
            <a:ext cx="1184400" cy="14889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7"/>
          <a:stretch/>
        </p:blipFill>
        <p:spPr>
          <a:xfrm>
            <a:off x="380880" y="2971800"/>
            <a:ext cx="1841760" cy="18381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8"/>
          <a:stretch/>
        </p:blipFill>
        <p:spPr>
          <a:xfrm>
            <a:off x="2666880" y="2209680"/>
            <a:ext cx="1841760" cy="13273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9"/>
          <a:stretch/>
        </p:blipFill>
        <p:spPr>
          <a:xfrm>
            <a:off x="457200" y="990720"/>
            <a:ext cx="1390680" cy="150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533520" y="53352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143000" y="2590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qui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114800" y="10666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formation Eth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2819520"/>
            <a:ext cx="2590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8195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895480" y="396252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quity and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295280" y="487692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hild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867280" y="457200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hinking sk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7238880" y="4876920"/>
            <a:ext cx="1438560" cy="181908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7358040" y="2590920"/>
            <a:ext cx="1785960" cy="15573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2590920" y="457200"/>
            <a:ext cx="1047600" cy="10764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4"/>
          <a:stretch/>
        </p:blipFill>
        <p:spPr>
          <a:xfrm>
            <a:off x="0" y="5084640"/>
            <a:ext cx="1868400" cy="177336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5"/>
          <a:stretch/>
        </p:blipFill>
        <p:spPr>
          <a:xfrm>
            <a:off x="6858000" y="533520"/>
            <a:ext cx="1616040" cy="180648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6"/>
          <a:stretch/>
        </p:blipFill>
        <p:spPr>
          <a:xfrm>
            <a:off x="4038480" y="5105520"/>
            <a:ext cx="1184400" cy="148896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7"/>
          <a:stretch/>
        </p:blipFill>
        <p:spPr>
          <a:xfrm>
            <a:off x="380880" y="2971800"/>
            <a:ext cx="1841760" cy="18381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8"/>
          <a:stretch/>
        </p:blipFill>
        <p:spPr>
          <a:xfrm>
            <a:off x="2666880" y="2209680"/>
            <a:ext cx="1841760" cy="132732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9"/>
          <a:stretch/>
        </p:blipFill>
        <p:spPr>
          <a:xfrm>
            <a:off x="457200" y="914400"/>
            <a:ext cx="1390680" cy="15019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4419720" y="2590920"/>
            <a:ext cx="761760" cy="3808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2133720" y="4267080"/>
            <a:ext cx="114300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1371600" y="1752480"/>
            <a:ext cx="5943600" cy="42674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1752480" y="1904760"/>
            <a:ext cx="5334120" cy="38862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 flipV="1">
            <a:off x="4647960" y="1371240"/>
            <a:ext cx="75960" cy="39625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1599840" y="1600200"/>
            <a:ext cx="1066680" cy="12193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1371240" y="761760"/>
            <a:ext cx="6172200" cy="2514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7543800" y="3048120"/>
            <a:ext cx="60948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352680" y="1523880"/>
            <a:ext cx="3429000" cy="32004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apyrus"/>
              </a:rPr>
              <a:t>The Fra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33520" y="175248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pyrus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828800" y="236232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Papyrus"/>
              </a:rPr>
              <a:t>The Standar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Learners use information literacy skills, resources and tool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Inquire, think critically, and gain knowled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Draw conclusions, make informed decisions, apply knowledge to new situations, and create new knowled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Share knowledge and participate ethically and productively as members of our democratic socie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Pursue personal and aesthetic grow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apyrus"/>
              </a:rPr>
              <a:t>The Fra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33520" y="175248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pyrus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493280" y="3200400"/>
            <a:ext cx="193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pyrus"/>
              </a:rPr>
              <a:t>Str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828800" y="236232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14600" y="388620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apyrus"/>
              </a:rPr>
              <a:t>Str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Four parts of each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Skill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Dispositions in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Responsi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Self-Assessment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Papyrus"/>
              </a:rPr>
              <a:t>Skil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pyrus"/>
              </a:rPr>
              <a:t>Key abilities needed for understanding, learning, thinking, and mastering subje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Multiple litera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Critical th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Social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Inquiry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Content 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5330880" y="1986120"/>
            <a:ext cx="2673360" cy="37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685800" y="4159080"/>
            <a:ext cx="723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Papyrus"/>
              </a:rPr>
              <a:t>Dispositions in A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pyrus"/>
              </a:rPr>
              <a:t>Ongoing beliefs and attitudes that guide thinking and intellectual behavior that can be measured through actions tak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Papyru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pyrus"/>
              </a:rPr>
              <a:t>Curi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Papyru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pyrus"/>
              </a:rPr>
              <a:t>Resi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Papyru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pyrus"/>
              </a:rPr>
              <a:t>Flex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Papyru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pyrus"/>
              </a:rPr>
              <a:t>Imagin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Papyru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pyrus"/>
              </a:rPr>
              <a:t>Crit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Papyru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pyrus"/>
              </a:rPr>
              <a:t>Refl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Papyru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pyrus"/>
              </a:rPr>
              <a:t>Self-evalu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4776840" y="1600200"/>
            <a:ext cx="382104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Papyrus"/>
              </a:rPr>
              <a:t>Responsibiliti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pyrus"/>
              </a:rPr>
              <a:t>Common behaviors used by independent learners in researching, investigating, and problem solv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Follow ethical &amp; legal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Respect principals of Intellectual Free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Pursue multiple perspectives &amp; balance of view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Practice safe behavi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Contribute to the exchange of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Respect ideas &amp; experiences of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6095880" y="4191120"/>
            <a:ext cx="2514600" cy="223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Papyrus"/>
              </a:rPr>
              <a:t>Self-Assessment Strategi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Reflections on one’s own learning to determine that the skills, dispositions, and responsibilities are eff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pyrus"/>
              </a:rPr>
              <a:t>Processes of 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pyrus"/>
              </a:rPr>
              <a:t>Products of 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pyrus"/>
              </a:rPr>
              <a:t>Three-direc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Papyrus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pyrus"/>
              </a:rPr>
              <a:t>Summ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Papyrus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pyrus"/>
              </a:rPr>
              <a:t>Form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Papyrus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pyrus"/>
              </a:rPr>
              <a:t>Predi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4648320" y="2077920"/>
            <a:ext cx="4038480" cy="356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1692000"/>
            <a:ext cx="77724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apyrus"/>
              </a:rPr>
              <a:t>Gail Dickinson</a:t>
            </a:r>
            <a:br>
              <a:rPr sz="4400"/>
            </a:br>
            <a:r>
              <a:rPr b="0" lang="en-US" sz="4400" spc="-1" strike="noStrike" u="sng">
                <a:solidFill>
                  <a:srgbClr val="0066ff"/>
                </a:solidFill>
                <a:uFillTx/>
                <a:latin typeface="Papyrus"/>
                <a:hlinkClick r:id="rId1"/>
              </a:rPr>
              <a:t>gdickins@odu.edu</a:t>
            </a:r>
            <a:br>
              <a:rPr sz="4400"/>
            </a:b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Papyrus"/>
              </a:rPr>
              <a:t>Barbara Stripling</a:t>
            </a:r>
            <a:br>
              <a:rPr sz="4400"/>
            </a:br>
            <a:r>
              <a:rPr b="0" lang="en-US" sz="4400" spc="-1" strike="noStrike" u="sng">
                <a:solidFill>
                  <a:srgbClr val="0066ff"/>
                </a:solidFill>
                <a:uFillTx/>
                <a:latin typeface="Papyrus"/>
                <a:hlinkClick r:id="rId2"/>
              </a:rPr>
              <a:t>bstripling@schools.nyc.gov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apyrus"/>
              </a:rPr>
              <a:t>The Fra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33520" y="175248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pyrus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493280" y="3200400"/>
            <a:ext cx="193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pyrus"/>
              </a:rPr>
              <a:t>Str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078640" y="4572000"/>
            <a:ext cx="26341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pyrus"/>
              </a:rPr>
              <a:t>Indicators</a:t>
            </a: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828800" y="236232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514600" y="380988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581280" y="518148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apyrus"/>
              </a:rPr>
              <a:t>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pyrus"/>
              </a:rPr>
              <a:t>Sub-categories that describe what abilities students should demonstrate within each of the four strands of each standar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apyrus"/>
              </a:rPr>
              <a:t>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685800" y="1676520"/>
          <a:ext cx="8001000" cy="2998800"/>
        </p:xfrm>
        <a:graphic>
          <a:graphicData uri="http://schemas.openxmlformats.org/drawingml/2006/table">
            <a:tbl>
              <a:tblPr/>
              <a:tblGrid>
                <a:gridCol w="80010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Standard 1:  Inquire, think critically, and gain knowledge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Strand 1.1: Skil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Indicator 1.1.1: Follow an inquiry-based process in seeking knowledge in curricular subjects, and make the real-world connection for using this process in own lif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apyrus"/>
              </a:rPr>
              <a:t>The Fra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3520" y="175248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pyrus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493280" y="3200400"/>
            <a:ext cx="193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pyrus"/>
              </a:rPr>
              <a:t>Str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78640" y="4572000"/>
            <a:ext cx="26341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pyrus"/>
              </a:rPr>
              <a:t>Indicators</a:t>
            </a: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57913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pyrus"/>
              </a:rPr>
              <a:t>Benchmar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828800" y="236232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590920" y="388620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809880" y="518148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apyrus"/>
              </a:rPr>
              <a:t>Benchma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Abilities students should demonstrate by the end of grades 2, 5, 8, 10 &amp; 12+ for each indica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apyrus"/>
              </a:rPr>
              <a:t>Benchma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85800" y="1828800"/>
          <a:ext cx="8001000" cy="4281480"/>
        </p:xfrm>
        <a:graphic>
          <a:graphicData uri="http://schemas.openxmlformats.org/drawingml/2006/table">
            <a:tbl>
              <a:tblPr/>
              <a:tblGrid>
                <a:gridCol w="80010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Standard 1:  Inquire, think critically, and gain knowledge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Strand 1.1: Skil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Indicator 1.1.1: Follow an inquiry-based process in seeking knowledge in curricular subjects, and make the real-world connection for using this process in own lif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Grade 5 Benchmark: Follow a process whenever pursuing new information through inquiry or research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apyrus"/>
              </a:rPr>
              <a:t>Standards for the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Papyrus"/>
              </a:rPr>
              <a:t>21</a:t>
            </a:r>
            <a:r>
              <a:rPr b="1" lang="en-US" sz="4400" spc="-1" strike="noStrike" baseline="30000">
                <a:solidFill>
                  <a:srgbClr val="000000"/>
                </a:solidFill>
                <a:latin typeface="Papyrus"/>
              </a:rPr>
              <a:t>st</a:t>
            </a:r>
            <a:r>
              <a:rPr b="1" lang="en-US" sz="4400" spc="-1" strike="noStrike">
                <a:solidFill>
                  <a:srgbClr val="000000"/>
                </a:solidFill>
                <a:latin typeface="Papyrus"/>
              </a:rPr>
              <a:t> Century Lear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ff"/>
                </a:solidFill>
                <a:uFillTx/>
                <a:latin typeface="Arial"/>
                <a:hlinkClick r:id="rId1"/>
              </a:rPr>
              <a:t>ALA | AASL Standards for the 21st-Century Lear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Papyrus"/>
              </a:rPr>
              <a:t>The Standar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511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Learners use information literacy skills, resources and tool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Papyr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Inquire, think critically, and gain knowled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Papyr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Draw conclusions, make informed decisions, apply knowledge to new situations, and create new knowled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Papyr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Share knowledge and participate ethically and productively as members of our democratic socie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Papyr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Pursue personal and aesthetic grow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2286000" y="1447920"/>
            <a:ext cx="5029200" cy="43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Papyrus"/>
              </a:rPr>
              <a:t>Get Set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pyrus"/>
              </a:rPr>
              <a:t>Learning Standards vs. Guideli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pyrus"/>
              </a:rPr>
              <a:t>Learning Standards define what we expect students to be able to do as lear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4952880" y="1447920"/>
            <a:ext cx="33130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Papyrus"/>
              </a:rPr>
              <a:t>Lesson:  Standards 3 &amp; 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Possible Uni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Elementary unit on immi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Elementary through high school unit on theme of belonging and personal and cultural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Book discussion group for elementary through high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Decision:  Book discussion group to introduce concepts of personal and cultural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pyrus"/>
              </a:rPr>
              <a:t>Standard 3: </a:t>
            </a:r>
            <a:r>
              <a:rPr b="1" lang="en-US" sz="2800" spc="-1" strike="noStrike">
                <a:solidFill>
                  <a:srgbClr val="000000"/>
                </a:solidFill>
                <a:latin typeface="Papyrus"/>
              </a:rPr>
              <a:t>Share knowledge and participate ethically and productively as members of our democratic society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Skill: 3.1.2: Participate and collaborate as members of a social and intellectual network of learn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Disposition in Action 3.2.2: Show social responsibility by participating actively with others in learning situations and by contributing questions and ideas during group discu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2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apyrus"/>
              </a:rPr>
              <a:t>Standard 4: </a:t>
            </a: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Pursue personal and aesthetic grow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Skill 4.1.1: Read, view, and listen for pleasure and personal grow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Responsibility: 4.3.1 Participate in the social exchange of ideas, both electronically and in pers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pyrus"/>
              </a:rPr>
              <a:t>Contribution to Group Discu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What is the main idea that I contributed to the group discuss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What two ideas from others caused me to rethink my own ide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How did I help the group reach consens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What did I do to make sure that the group discussion included and respected all memb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apyrus"/>
              </a:rPr>
              <a:t>Curriculum Inte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Pick one unit currently being done in your school that would be a good opportunity for integration of a skill, disposition, a responsibility, and/or a self-assessment strateg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apyrus"/>
              </a:rPr>
              <a:t>Development of Les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Use the Lesson Plan Template to design a lesson to teach a skill within your un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You may also decide to include a disposition, responsibility, or self-assessment strateg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(You may copy the template onto chart paper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apyrus"/>
              </a:rPr>
              <a:t>Gallery Wal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819520" y="1752480"/>
            <a:ext cx="37256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Papyrus"/>
              </a:rPr>
              <a:t>Action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pyrus"/>
              </a:rPr>
              <a:t>Presenting the Standards to Oth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38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pyrus"/>
              </a:rPr>
              <a:t>Constitu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Princip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Tea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Pa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Librar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District/BO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School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Legisl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Professional Ass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48320" y="1294920"/>
            <a:ext cx="40384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pyrus"/>
              </a:rPr>
              <a:t>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pyrus"/>
              </a:rPr>
              <a:t>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apyrus"/>
              </a:rPr>
              <a:t>Top Ten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2897280" y="1371600"/>
            <a:ext cx="34304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pyrus"/>
              </a:rPr>
              <a:t>Learning Standards vs. Guideli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384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pyrus"/>
              </a:rPr>
              <a:t>Guidelines define what an exemplary school library media program looks li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895480" y="2971800"/>
            <a:ext cx="586764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apyrus"/>
              </a:rPr>
              <a:t>Developing An Action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pyrus"/>
              </a:rPr>
              <a:t>Use Action Plan Grid to help you focus on what will be your first three actions to implement the new standards in your school or other work sit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pyru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4572000" y="1981080"/>
            <a:ext cx="41101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Papyru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Papyrus"/>
              </a:rPr>
              <a:t>Thank you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pyrus"/>
              </a:rPr>
              <a:t>Go forth and spread the word of the AASL National Standards for the 2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Papyrus"/>
              </a:rPr>
              <a:t>st</a:t>
            </a:r>
            <a:r>
              <a:rPr b="1" lang="en-US" sz="2800" spc="-1" strike="noStrike">
                <a:solidFill>
                  <a:srgbClr val="000000"/>
                </a:solidFill>
                <a:latin typeface="Papyrus"/>
              </a:rPr>
              <a:t>-Century Lear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apyrus"/>
              </a:rPr>
              <a:t>History of Stand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1986 – Information Power Information Literacy Standards for Student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pyrus"/>
              </a:rPr>
              <a:t>9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pyrus"/>
              </a:rPr>
              <a:t>Focus on information literacy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pyrus"/>
              </a:rPr>
              <a:t>Embedded in national guideli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Papyru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(Chapter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pyrus"/>
              </a:rPr>
              <a:t>No assessments, little emphasis on reading or other teaching eff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Papyrus"/>
              </a:rPr>
              <a:t>Get Ready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apyrus"/>
              </a:rPr>
              <a:t>Foundation of Belie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066680" y="2362320"/>
            <a:ext cx="68580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apyrus"/>
              </a:rPr>
              <a:t>Common Belie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Reading is a window to the world.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Inquiry provides a framework for lear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Ethical behavior in the use of information must be tau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Technology skills are crucial for future employment nee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Equitable access is a key component for edu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The definition of information literacy has become more complex as resources and technologies have changed.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The continuing expansion of information demands that all individuals acquire the thinking skills to learn on their o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Learning has a social contex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School libraries are essential to the development of learning ski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apyrus"/>
              </a:rPr>
              <a:t>Start by Thin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Who can we Dance wi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pyrus"/>
              </a:rPr>
              <a:t>Building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pyrus"/>
              </a:rPr>
              <a:t>District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pyrus"/>
              </a:rPr>
              <a:t>Stat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pyrus"/>
              </a:rPr>
              <a:t>National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4952880" y="2209680"/>
            <a:ext cx="38466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0T02:40:54Z</dcterms:created>
  <dc:creator>au</dc:creator>
  <dc:description/>
  <dc:language>en-US</dc:language>
  <cp:lastModifiedBy>Barbara Stripling</cp:lastModifiedBy>
  <dcterms:modified xsi:type="dcterms:W3CDTF">2008-07-16T04:12:23Z</dcterms:modified>
  <cp:revision>17</cp:revision>
  <dc:subject/>
  <dc:title>Slide 1</dc:title>
</cp:coreProperties>
</file>